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C7A-C429-46A8-9DC9-1ADC489A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FFD-BC14-4FEF-8678-DACE486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2DA-904D-4A9C-A4DA-E0F08B4E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173-CD02-4A07-8BA5-22FC7813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A75-501D-4478-88B2-2864ECF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903-9C14-456B-AFCE-C3F122EF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0A1-6611-4507-9FE3-0E4470D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726-75E6-4987-99D3-9E2D6E87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F93-3188-4875-B978-7D3FCD58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428-7E48-48D8-A5F7-5D511ED1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5EC-4E8E-4C56-87AB-DC2EF93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4BB-FBE3-411D-84BF-28C144B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6200" y="6381360"/>
            <a:ext cx="42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586AD788-84D3-45D5-8294-6F77C1D18F81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 Test-Case Generat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logg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eld-Test Tra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.Kieß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January 22, 200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concep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2050560"/>
            <a:ext cx="79768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e test-case generator TCGen is implemented as a so-called PCO-View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 request logfile data from PC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Primitive interpretation is done using the databa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which has to match the PS monitored during field-t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DC is a proprietary test script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in which test cases will b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9960" y="4613400"/>
            <a:ext cx="1357200" cy="101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78600" y="4354560"/>
            <a:ext cx="1573200" cy="2145960"/>
            <a:chOff x="5178600" y="4354560"/>
            <a:chExt cx="1573200" cy="2145960"/>
          </a:xfrm>
        </p:grpSpPr>
        <p:grpSp>
          <p:nvGrpSpPr>
            <p:cNvPr id="191" name=""/>
            <p:cNvGrpSpPr/>
            <p:nvPr/>
          </p:nvGrpSpPr>
          <p:grpSpPr>
            <a:xfrm>
              <a:off x="5178600" y="4354560"/>
              <a:ext cx="1573200" cy="1435680"/>
              <a:chOff x="5178600" y="4354560"/>
              <a:chExt cx="1573200" cy="1435680"/>
            </a:xfrm>
          </p:grpSpPr>
          <p:sp>
            <p:nvSpPr>
              <p:cNvPr id="192" name=""/>
              <p:cNvSpPr/>
              <p:nvPr/>
            </p:nvSpPr>
            <p:spPr>
              <a:xfrm>
                <a:off x="5841000" y="4399200"/>
                <a:ext cx="326520" cy="1828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61360" y="495828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45200" y="4958280"/>
                <a:ext cx="185760" cy="2887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9040" y="4556880"/>
                <a:ext cx="322920" cy="2898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96400" y="4562640"/>
                <a:ext cx="326520" cy="2934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69040" y="5348520"/>
                <a:ext cx="32292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5040" y="5343840"/>
                <a:ext cx="317880" cy="2934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7400" y="5622480"/>
                <a:ext cx="317880" cy="1677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5120" y="4562640"/>
                <a:ext cx="1145880" cy="1059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74400" y="4354560"/>
                <a:ext cx="318960" cy="16668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95480" y="4906800"/>
                <a:ext cx="194040" cy="2944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78600" y="490212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07120" y="4506120"/>
                <a:ext cx="318960" cy="2887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4480" y="4506120"/>
                <a:ext cx="317880" cy="294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07120" y="5297760"/>
                <a:ext cx="32760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3120" y="5287680"/>
                <a:ext cx="317880" cy="2991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6840" y="5561280"/>
                <a:ext cx="317880" cy="1782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48160" y="4516560"/>
                <a:ext cx="1150560" cy="106056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83040" y="490680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1640" y="486648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1640" y="4866480"/>
                <a:ext cx="446760" cy="4107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2480" y="4836600"/>
                <a:ext cx="413640" cy="3852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295960" y="5858280"/>
              <a:ext cx="1325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TC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11120" y="4749840"/>
            <a:ext cx="1193760" cy="1041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50846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75080" y="5065560"/>
            <a:ext cx="168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080" y="50878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92760" y="5346720"/>
            <a:ext cx="675000" cy="32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4400" y="5064120"/>
            <a:ext cx="1417680" cy="1197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0800" y="3027240"/>
            <a:ext cx="1527120" cy="13384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5920" y="3892680"/>
            <a:ext cx="67176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612-FFB5-4342-9311-10DAF9B40C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algorit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2760" y="1898640"/>
            <a:ext cx="82389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The user specifies one or more entities to TCGe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which will be considered as the entity block under test (EU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11880" y="3159000"/>
            <a:ext cx="3362400" cy="897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95480" y="3960720"/>
            <a:ext cx="2977920" cy="23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8" name=""/>
          <p:cNvSpPr/>
          <p:nvPr/>
        </p:nvSpPr>
        <p:spPr>
          <a:xfrm>
            <a:off x="203040" y="2714760"/>
            <a:ext cx="83790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corded primitives are examined in an initial pass to gener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SEND-commands for all data received by the E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AWAIT-commands for all data emitted by the E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5800" y="4444920"/>
            <a:ext cx="44496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By further passes definitions of the primitive content ar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according to the values actually used during the field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F0E-7B26-46C7-9BFD-A053E46B0D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rul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0040" y="1974960"/>
            <a:ext cx="812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CGen supports rule files in XML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to automatically apply needed modifications of the data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5286240"/>
            <a:ext cx="76564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 cases can also be adapted ma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because they are generated in a human readabl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60920" y="3432240"/>
            <a:ext cx="4838400" cy="170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2200" y="3436920"/>
            <a:ext cx="2712960" cy="1638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_primitiv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y_rul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it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240" y="3121200"/>
            <a:ext cx="19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ration 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01720" y="4272120"/>
            <a:ext cx="11588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40760" y="31129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le file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085-0E70-470F-8FDD-2A0C37D96C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TA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2520" y="1955880"/>
            <a:ext cx="86518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he tool TAP can be used to execute generated test-cas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gether with a real target or a simulation of the protocol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Such test runs can be regression tes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if, e.g., a succesful phone call has been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... or reproductions of erroneous behaviou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8240" y="4506840"/>
            <a:ext cx="3630600" cy="1824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1000" y="4835520"/>
            <a:ext cx="1487160" cy="1287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9040" y="5506920"/>
            <a:ext cx="65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4613400"/>
            <a:ext cx="1214640" cy="1657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 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41960" y="5540400"/>
            <a:ext cx="1467000" cy="9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53280" y="554976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79E-5E31-4936-98C1-320136A031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… entity iso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8200" y="1869840"/>
            <a:ext cx="8299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o avoid disturbances from other entities the EUT have to be isolated inside the tested P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his is supported by the routing mechanisms of the generic GPF-FR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87692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is way no real air-network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, e.g., retrace an error in a specific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114720"/>
            <a:ext cx="2178000" cy="28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265560"/>
            <a:ext cx="993960" cy="2412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5549760"/>
            <a:ext cx="993600" cy="2415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60600" y="4267080"/>
            <a:ext cx="993600" cy="241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4648320"/>
            <a:ext cx="993600" cy="241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3200" y="5943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8280" y="4114800"/>
            <a:ext cx="111240" cy="903240"/>
          </a:xfrm>
          <a:custGeom>
            <a:avLst/>
            <a:gdLst>
              <a:gd name="textAreaLeft" fmla="*/ 71280 w 111240"/>
              <a:gd name="textAreaRight" fmla="*/ 111600 w 11124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4164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5029200"/>
            <a:ext cx="0" cy="53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708400">
            <a:off x="2017440" y="53481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320040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Adequate routing commands are contained in the test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also generated by TC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81280"/>
            <a:ext cx="121932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876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5181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81480"/>
            <a:ext cx="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708400">
            <a:off x="1638360" y="524808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708400">
            <a:off x="2018880" y="3571560"/>
            <a:ext cx="381240" cy="228600"/>
          </a:xfrm>
          <a:custGeom>
            <a:avLst/>
            <a:gdLst>
              <a:gd name="textAreaLeft" fmla="*/ 156960 w 381240"/>
              <a:gd name="textAreaRight" fmla="*/ 224280 w 3812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3538440"/>
            <a:ext cx="1440" cy="3477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708400">
            <a:off x="1639800" y="35049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0384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886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0D4-667C-47C5-8E9A-CC4BBCEDF7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2800" y="2031480"/>
            <a:ext cx="6942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Only selected parts of the protocol stack can be logg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insufficient data rates currently available on the test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t all communications between entities can be dupli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because at some points functional interfaces are used for performance reas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t solutions are on the way 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016760" y="284796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939-9884-4F5D-BF49-926A12E8E0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91000" y="2020680"/>
            <a:ext cx="50529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Support of other test scrip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TTCN-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6840" y="1774800"/>
            <a:ext cx="3327120" cy="2951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46200" y="3378240"/>
            <a:ext cx="613908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Enhanced possibilities in ru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regula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Consideration of further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message sequenc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4EE-C37B-48B4-B407-7FF25D6471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0920" y="2090880"/>
            <a:ext cx="57355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General Ide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ield-Test Logg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Protocol Stack Structur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Gene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Executio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D4F5-E4C4-458D-A575-61BAA45A7B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backgroun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is still the main possibility to find errors in today’s softwar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pecially if we have to deal with complex architectures as can be found inside protocol stacks of mobile devic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riting test-cases (TC) is a crit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dure often neglect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a lack of autom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7043760" y="427032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00FA-2235-4273-8C97-670B114F10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inten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4800" y="1868400"/>
            <a:ext cx="800748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est-Case generators which use, e.g., specifications ..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need detailed behaviour descriptions in a certain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e quite complex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420048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66ff33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840" y="3935520"/>
            <a:ext cx="602784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Why not use actual data collected anyway during field-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easily create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conveniently reproduce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A3F-B85F-490A-BA68-697FE65375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76480" y="1908000"/>
            <a:ext cx="1722240" cy="181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 flow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79760" y="352908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5800" y="2855880"/>
            <a:ext cx="33526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80440" y="3014640"/>
            <a:ext cx="1233720" cy="1820880"/>
            <a:chOff x="4780440" y="3014640"/>
            <a:chExt cx="1233720" cy="1820880"/>
          </a:xfrm>
        </p:grpSpPr>
        <p:grpSp>
          <p:nvGrpSpPr>
            <p:cNvPr id="61" name=""/>
            <p:cNvGrpSpPr/>
            <p:nvPr/>
          </p:nvGrpSpPr>
          <p:grpSpPr>
            <a:xfrm>
              <a:off x="4827960" y="3014640"/>
              <a:ext cx="1150560" cy="1030680"/>
              <a:chOff x="4827960" y="3014640"/>
              <a:chExt cx="1150560" cy="1030680"/>
            </a:xfrm>
          </p:grpSpPr>
          <p:sp>
            <p:nvSpPr>
              <p:cNvPr id="62" name=""/>
              <p:cNvSpPr/>
              <p:nvPr/>
            </p:nvSpPr>
            <p:spPr>
              <a:xfrm>
                <a:off x="5312520" y="3046680"/>
                <a:ext cx="238680" cy="13104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39200" y="344808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76560" y="3448080"/>
                <a:ext cx="135720" cy="20700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7280" y="3159720"/>
                <a:ext cx="236160" cy="2080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5520" y="3164040"/>
                <a:ext cx="238680" cy="210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67280" y="3728160"/>
                <a:ext cx="23616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52000" y="3724920"/>
                <a:ext cx="232560" cy="2106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10000" y="3924720"/>
                <a:ext cx="232560" cy="120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00760" y="3164040"/>
                <a:ext cx="838440" cy="7606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63920" y="3014640"/>
                <a:ext cx="233280" cy="1195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91320" y="3411000"/>
                <a:ext cx="141840" cy="21132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27960" y="340776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920" y="3123360"/>
                <a:ext cx="233280" cy="20700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00520" y="3123360"/>
                <a:ext cx="232560" cy="2113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21920" y="3691800"/>
                <a:ext cx="23940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06640" y="3684240"/>
                <a:ext cx="232560" cy="2145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8520" y="3881160"/>
                <a:ext cx="232560" cy="127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160" y="3130920"/>
                <a:ext cx="841680" cy="7614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70040" y="34110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39800" y="33822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9800" y="3382200"/>
                <a:ext cx="326880" cy="294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18560" y="3360600"/>
                <a:ext cx="302760" cy="276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780440" y="4116960"/>
              <a:ext cx="12337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st-Cas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3760" y="238284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5760" y="31291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14720" y="2968560"/>
            <a:ext cx="1162080" cy="1182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404964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04640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51320" y="35258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40520" y="35114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81080" y="5145840"/>
            <a:ext cx="8191440" cy="1149480"/>
          </a:xfrm>
          <a:custGeom>
            <a:avLst/>
            <a:gdLst>
              <a:gd name="textAreaLeft" fmla="*/ 1433520 w 8191440"/>
              <a:gd name="textAreaRight" fmla="*/ 5938920 w 8191440"/>
              <a:gd name="textAreaTop" fmla="*/ 153720 h 1149480"/>
              <a:gd name="textAreaBottom" fmla="*/ 99576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1120" y="494496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velopment &amp; Bug-Fi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E37F-80C0-4BD6-BDBA-9EAF2A0E18D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21440" y="506088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5102280"/>
            <a:ext cx="1486080" cy="124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C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tool PCO is used to supervise field-tes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record all communications inside the protocol stack (PS) of, e.g., a cellular pho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 rot="1013400">
            <a:off x="307800" y="3471840"/>
            <a:ext cx="1722600" cy="181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624040" y="3538440"/>
            <a:ext cx="4418280" cy="272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357800"/>
            <a:ext cx="1162080" cy="1384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011-0E36-4FE4-AC92-0D3270A12C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20089800">
            <a:off x="3649680" y="5084640"/>
            <a:ext cx="2273400" cy="993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GPF-FR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generic framework is used on target and tool s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ing duplication of the communication fl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flipH="1" rot="1014000">
            <a:off x="984960" y="3681000"/>
            <a:ext cx="1398600" cy="14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1880" y="396720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7120" y="5127480"/>
            <a:ext cx="257184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5960" y="5110200"/>
            <a:ext cx="257148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4348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plici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a t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8DB-520C-4D57-8B0D-94D4FE9BFE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66672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rimitiv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080" y="1868400"/>
            <a:ext cx="859932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A protocol stack consists of several ent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communicating via primitives exchanged between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Primitives contain internal data and air-mess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6120" y="4084560"/>
          <a:ext cx="3736800" cy="2016000"/>
        </p:xfrm>
        <a:graphic>
          <a:graphicData uri="http://schemas.openxmlformats.org/drawingml/2006/table">
            <a:tbl>
              <a:tblPr/>
              <a:tblGrid>
                <a:gridCol w="37368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ir_message_SDU (encod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981080" y="3684600"/>
            <a:ext cx="15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70560" y="4116240"/>
          <a:ext cx="2351160" cy="1505160"/>
        </p:xfrm>
        <a:graphic>
          <a:graphicData uri="http://schemas.openxmlformats.org/drawingml/2006/table">
            <a:tbl>
              <a:tblPr/>
              <a:tblGrid>
                <a:gridCol w="2351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313320" y="37274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-message (deco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8240" y="4125960"/>
            <a:ext cx="633240" cy="14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16440" y="5622480"/>
            <a:ext cx="64476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1920" y="3795840"/>
            <a:ext cx="1174680" cy="461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5726160"/>
            <a:ext cx="1174680" cy="51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4800" y="4270320"/>
            <a:ext cx="9360" cy="1425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5040" y="4070520"/>
            <a:ext cx="1074600" cy="89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3880" y="5084640"/>
            <a:ext cx="1065240" cy="10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322-EC4F-405B-BAAC-C173586DF4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ba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934640"/>
            <a:ext cx="8007480" cy="17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he altering structure definitions are collected in a database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 keep test tools independent from the actual 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0440" y="3651120"/>
            <a:ext cx="1527120" cy="2192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n32-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120" y="3772080"/>
            <a:ext cx="1952640" cy="215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r-messa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TSI con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3360" y="3890880"/>
            <a:ext cx="1427040" cy="1670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38080" y="4203720"/>
            <a:ext cx="1155960" cy="1666080"/>
            <a:chOff x="2638080" y="4203720"/>
            <a:chExt cx="1155960" cy="1666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4203720"/>
              <a:ext cx="954720" cy="883800"/>
              <a:chOff x="2743200" y="4203720"/>
              <a:chExt cx="954720" cy="88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145320" y="4231080"/>
                <a:ext cx="19800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82360" y="457560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83520" y="4575600"/>
                <a:ext cx="11268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58760" y="4328280"/>
                <a:ext cx="19584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1440" y="4331880"/>
                <a:ext cx="19800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58760" y="4815720"/>
                <a:ext cx="19584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6840" y="4812840"/>
                <a:ext cx="19296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800" y="4984200"/>
                <a:ext cx="192960" cy="1033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86480" y="4331880"/>
                <a:ext cx="69552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04640" y="4203720"/>
                <a:ext cx="19368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42400" y="4543560"/>
                <a:ext cx="11772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3200" y="454068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20960" y="4296960"/>
                <a:ext cx="19368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4000" y="4296960"/>
                <a:ext cx="19296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0960" y="4784400"/>
                <a:ext cx="1987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89040" y="4778280"/>
                <a:ext cx="19296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00320" y="4946760"/>
                <a:ext cx="192960" cy="109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46160" y="4303440"/>
                <a:ext cx="698400" cy="6530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10040" y="454356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4840" y="451872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84840" y="4518720"/>
                <a:ext cx="271080" cy="2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67200" y="4500360"/>
                <a:ext cx="250920" cy="2372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638080" y="5151240"/>
              <a:ext cx="11559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b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28840" y="465948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0040" y="4660920"/>
            <a:ext cx="373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4160" y="46688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85560" y="4257720"/>
            <a:ext cx="1105920" cy="1941120"/>
            <a:chOff x="5785560" y="4257720"/>
            <a:chExt cx="1105920" cy="1941120"/>
          </a:xfrm>
        </p:grpSpPr>
        <p:grpSp>
          <p:nvGrpSpPr>
            <p:cNvPr id="161" name=""/>
            <p:cNvGrpSpPr/>
            <p:nvPr/>
          </p:nvGrpSpPr>
          <p:grpSpPr>
            <a:xfrm>
              <a:off x="5866560" y="4257720"/>
              <a:ext cx="951840" cy="882720"/>
              <a:chOff x="5866560" y="4257720"/>
              <a:chExt cx="951840" cy="882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240" y="428508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3200" y="462888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6880" y="4628880"/>
                <a:ext cx="11232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1760" y="4381920"/>
                <a:ext cx="19512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43000" y="4385520"/>
                <a:ext cx="19764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81760" y="4869000"/>
                <a:ext cx="1951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48040" y="4866120"/>
                <a:ext cx="19224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5080" y="5037480"/>
                <a:ext cx="192240" cy="1029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09480" y="4385520"/>
                <a:ext cx="693360" cy="65160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26920" y="4257720"/>
                <a:ext cx="19296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63240" y="4597200"/>
                <a:ext cx="11736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6560" y="459432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4320" y="4350960"/>
                <a:ext cx="19296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5560" y="4350960"/>
                <a:ext cx="19224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4320" y="4837680"/>
                <a:ext cx="19800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10600" y="4831560"/>
                <a:ext cx="19224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22600" y="4999680"/>
                <a:ext cx="192240" cy="10944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69160" y="4357440"/>
                <a:ext cx="69624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32320" y="459720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457236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07120" y="4572360"/>
                <a:ext cx="270360" cy="25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9480" y="4554000"/>
                <a:ext cx="250200" cy="23688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785560" y="5205960"/>
              <a:ext cx="110592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3320" y="4670280"/>
            <a:ext cx="33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735-CF21-4C46-A215-E9DE1DBF50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Ronny Kiessling</cp:lastModifiedBy>
  <dcterms:modified xsi:type="dcterms:W3CDTF">2004-01-07T18:58:54Z</dcterms:modified>
  <cp:revision>110</cp:revision>
  <dc:subject/>
  <dc:title>Preparing PPT for Presentation</dc:title>
</cp:coreProperties>
</file>